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2FD-5F90-4696-92CD-83680429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9DC-48C9-4688-8E19-A617A5EF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19B-5BA4-4ED7-BDB5-88017FBE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BFE-C9D7-4415-A9B6-54219320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0DC9-2552-4C4F-B2A6-8346A3F5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AFCA-59E2-4239-92D7-DB9BCECA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A797-CE47-4CE7-8296-02BF0FE7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8F46-A122-4CB7-AA9C-C7E2BDA4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B51A-64CF-4AA0-A687-1035A67E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37D5-A6BC-4245-B50E-2CC60DC5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D7B7-C990-4AF7-B3D9-3EC37E29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7A1-8D22-4620-9048-A90828CD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1A8D-3806-413F-A86C-A702A904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63D2-89A3-443B-829C-03217DEF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980D-00AE-428B-889C-0381B81D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3EC3-0222-4D8C-9C1D-9CC8178D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8028-1D85-41DF-8BEC-8FE6BFAB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5E2-4CD9-4DAD-A599-9A2557C3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BA9-F0F0-41E7-975D-0303C838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8D8-9775-4BAE-AFBA-0AC7E687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CA6-6A72-4437-A704-24C9391A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CC1-E50B-4913-94E7-1953E6C0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0DA-25CE-4544-B21C-5592EDA7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197-9EB3-4C29-BE2D-9DDA9A13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089B-2DA1-4E3F-AC67-52687C6EC4B8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66E0-4435-4724-AC03-200221B1AC1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Creative Ad Campaig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dvertising makes you spend money you don’t have for something you don’t want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Will Rogers, American a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sponsibility - this is your responsibility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ITHER/OR Strategies for Persuasive Writ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7720" y="4647960"/>
            <a:ext cx="6629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veryone is doing this or buying this; a.k.a. the “bandwagon” techniqu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telligent people buy into this (appeal to intellect)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is is good for you or someone you know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ppiness will come for you or someone you know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very reasonable person would agree (appeal to common sense)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ight-this is your right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pinion of an expert - he/she says it’s a good idea or product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S Computer Lab</cp:lastModifiedBy>
  <dcterms:modified xsi:type="dcterms:W3CDTF">2008-01-22T17:38:45Z</dcterms:modified>
  <cp:revision>2</cp:revision>
  <dc:subject/>
  <dc:title>EITHER/OR Strategies for Persuasive Writing</dc:title>
</cp:coreProperties>
</file>